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CFD-7043-48C7-9A41-60CB1B5A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1E3-5995-4B4B-9DEC-3609F69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923-15F8-4998-B2FC-D3401D82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722-FE79-4712-9619-DCAFC06A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184-31DE-4753-B310-60BF41D1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876-1F31-4674-8EDF-D6AA170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C72-9825-4634-8D5F-A4B515A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3AD-82B9-4011-AC31-B931D0CE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A14-BBFA-4EEE-9FC4-A376FC94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EFA-C079-4C5E-A1AD-B30E109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CE7-685B-46B0-A6A4-3E53EAA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1ED-E505-422A-8A6D-6ADB0B56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6AF8-9DEB-4310-9FEC-755B232C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Me llamo ___________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  Clase 6 NH</a:t>
            </a:r>
            <a:br>
              <a:rPr sz="3800"/>
            </a:br>
            <a:r>
              <a:rPr b="0" lang="en-US" sz="3800" spc="-1" strike="noStrike">
                <a:solidFill>
                  <a:srgbClr val="800080"/>
                </a:solidFill>
                <a:latin typeface="Arial"/>
              </a:rPr>
              <a:t>La fecha es el 11 de mayo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ropósito # 5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son verbos de cambio rad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thout looking in your notes or textbook, try to label as many body part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3560" y="3276720"/>
            <a:ext cx="32958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43792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195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91120" y="3429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3886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1148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47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905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19160" y="5562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133720" y="5105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080" y="351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20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2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4084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6788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6248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1814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6483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6040" y="419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paso de verbos RE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364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cognize SPANISH ver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to “conjugate”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690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l Spanish verbs end in either –AR, -ER or -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o “conjugate” a verb means to change it in order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052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. Find the INFINITIVE verb ending.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(-ar, -er, -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7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2. Remove the INFINITIVE</a:t>
            </a: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30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3. Replace with the appropriate NEW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dcterms:modified xsi:type="dcterms:W3CDTF">2012-05-29T19:56:34Z</dcterms:modified>
  <cp:revision>22</cp:revision>
  <dc:subject/>
  <dc:title>Me llamo ___________  Clase 7 IM La fecha es el 18 de noviembre del 2010</dc:title>
</cp:coreProperties>
</file>